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0D42-0A30-4D98-90F4-02575A26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4C0C-1F55-40F0-9315-AA9D5362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025F-84F2-4548-AF84-069320DF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7EFF-7A6C-40B5-A518-1CECD5F8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48A1-F3D4-4AA4-8847-3C8904F2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57CD-A85F-43DF-9C56-CF605B3D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F244-2B70-4089-B98D-06A6BC55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E681-73B6-4C12-997D-BE97CB58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A1ED-C4AE-4996-95D1-FFEE417B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E512-DF13-46E1-8363-39EF113B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A9A8-1F53-4D72-950E-595B0A85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A465-F909-4943-BB05-FFC11D17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5CF9-2791-4EEB-A7E1-D0A3A4DC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34D3-7D96-4555-81D1-7DD90800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4F16-C0E0-4EE2-82E1-323063C2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8F85-8A80-4A5C-AEA7-6F05B325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7189-D281-4A12-B7C0-36B6FCB5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837E-14A9-4A6D-852A-1E68FB23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96FB-6DD8-4548-B04C-6D934E06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8874-2C3F-493F-BE9C-1F2FCA89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9C97-2EA5-435F-8215-2C88AD37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19B1-DD5F-47B0-B74E-ECFC799D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E5F8-FAFC-45C8-8C04-A8E932DA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3D16-74DE-4456-97EC-1C90F691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713D-40B6-4E29-9EC6-BFF92531FD2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F5C3-6548-43E5-8A84-C29F002BFAF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874160"/>
            <a:ext cx="1113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26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618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[: Кой ще ни придружи в Сион,:] (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е чака Бог с любов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[: Там ние пред Неговия трон :] (3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ще пеем в век ве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8368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О, Сион, мой дом, ние идем къмто теб, къмто теб, идем ние към теб - нашия небесен дом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9280" y="275292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. [: О, да бях н аз вече там :] (3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 небесно множество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[: Тогаз ведно със тях и сам :] (3) ще славя в тържеств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79280" y="28368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О, Сион, мой дом, ние идем къмто теб, къмто теб, идем ние към теб - нашия небесен дом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75292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[:Ще дойде скоро наший Спас:] (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ъс ангелския хор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[: тогаз ще вземе Той и нас :] (3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 небесния Свой двор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440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О, Сион, мой дом, ние идем къмто теб, къмто теб, идем ние към теб - нашия небесен до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79280" y="275292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[: На скърби, болки и тегло :] (3) веч там се туря край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[: а ние във бяло облекло :] (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ще бъдем вечно в рай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79280" y="28368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О, Сион, мой дом, ние идем къмто теб, къмто теб, идем ние към теб - нашия небесен дом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15T08:15:54Z</dcterms:modified>
  <cp:revision>50</cp:revision>
  <dc:subject/>
  <dc:title>Slide 1</dc:title>
</cp:coreProperties>
</file>